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621-9973-406B-8D05-1E102E4D380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EC0-C183-4E4B-B97B-89F153C7963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76BD-D517-4259-BD98-FDFC674DE97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445-FE7D-479A-B02C-7ACC2A15EBA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8C2-B731-40C4-A7E7-5B77E1B3E4B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D13-7A41-4B9D-9ECC-8310DDF073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F0C4-9572-40D1-9F01-798D4353356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29E6-6783-4092-8B82-17D6BE7FA4A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86D-CE7D-4330-AA3A-25ABDBC3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0A3-7622-4BE8-A1DC-4036E9AC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B7C-DF72-4825-848A-BAD7B172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8A8-1307-468D-BE33-B11AD456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18A-2F72-4AB9-B326-52159BA9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A49-6DB8-489E-95CC-241E9E5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484-7E22-47FC-BFC4-B29DCAA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4FC-B858-4539-94BA-C7A63FA6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58B-04FC-41C2-A462-E0EA81FC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55E-F629-4264-AE9A-EB9782C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231-4D41-45FD-AAC3-FB3F088D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319-3DEA-42F1-9663-3F7D940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7B1-984E-45E0-BAA0-CAF6ADF8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ashngtn"/>
          <p:cNvPicPr/>
          <p:nvPr/>
        </p:nvPicPr>
        <p:blipFill>
          <a:blip r:embed="rId1"/>
          <a:stretch/>
        </p:blipFill>
        <p:spPr>
          <a:xfrm>
            <a:off x="685800" y="609480"/>
            <a:ext cx="1620720" cy="198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812320" y="83808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Zero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SO00575_"/>
          <p:cNvPicPr/>
          <p:nvPr/>
        </p:nvPicPr>
        <p:blipFill>
          <a:blip r:embed="rId2"/>
          <a:stretch/>
        </p:blipFill>
        <p:spPr>
          <a:xfrm>
            <a:off x="7010280" y="533520"/>
            <a:ext cx="1049400" cy="2241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825480" y="31910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scartes Rule of Sig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67920" y="3724200"/>
            <a:ext cx="84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sitive real zer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f 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ther equal to the number of sign change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or is less by an even integ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67920" y="5095800"/>
            <a:ext cx="84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gative real zer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f i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ther equal to the number of sign change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-x) or is less by an even integ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96520" y="600120"/>
            <a:ext cx="606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 Apply Descartes’s Rule of Signs t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27x - 18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3200" y="2514600"/>
            <a:ext cx="67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sign variations are there in f(x)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3124080" y="1981080"/>
            <a:ext cx="1067040" cy="3049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24" h="144">
                <a:moveTo>
                  <a:pt x="0" y="0"/>
                </a:moveTo>
                <a:cubicBezTo>
                  <a:pt x="116" y="72"/>
                  <a:pt x="232" y="144"/>
                  <a:pt x="336" y="144"/>
                </a:cubicBezTo>
                <a:cubicBezTo>
                  <a:pt x="440" y="144"/>
                  <a:pt x="532" y="7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3680" y="311472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one sign change, so f must have exact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positive real zer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22600" y="418140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about f(-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32520" y="471492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-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27x -1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9"/>
          <p:cNvSpPr/>
          <p:nvPr/>
        </p:nvSpPr>
        <p:spPr>
          <a:xfrm>
            <a:off x="2743200" y="52578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76" h="96">
                <a:moveTo>
                  <a:pt x="0" y="0"/>
                </a:moveTo>
                <a:cubicBezTo>
                  <a:pt x="96" y="48"/>
                  <a:pt x="192" y="96"/>
                  <a:pt x="288" y="96"/>
                </a:cubicBezTo>
                <a:cubicBezTo>
                  <a:pt x="384" y="96"/>
                  <a:pt x="480" y="48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0"/>
          <p:cNvSpPr/>
          <p:nvPr/>
        </p:nvSpPr>
        <p:spPr>
          <a:xfrm>
            <a:off x="4419720" y="52578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76" h="48">
                <a:moveTo>
                  <a:pt x="0" y="0"/>
                </a:moveTo>
                <a:cubicBezTo>
                  <a:pt x="96" y="24"/>
                  <a:pt x="192" y="48"/>
                  <a:pt x="288" y="48"/>
                </a:cubicBezTo>
                <a:cubicBezTo>
                  <a:pt x="384" y="48"/>
                  <a:pt x="480" y="24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5410080" y="5257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80" h="96">
                <a:moveTo>
                  <a:pt x="0" y="0"/>
                </a:moveTo>
                <a:cubicBezTo>
                  <a:pt x="80" y="48"/>
                  <a:pt x="160" y="96"/>
                  <a:pt x="240" y="96"/>
                </a:cubicBezTo>
                <a:cubicBezTo>
                  <a:pt x="320" y="96"/>
                  <a:pt x="400" y="48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839160" y="5562720"/>
            <a:ext cx="68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variations in sign means f has either 3 or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ative real zer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1840" y="60012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y Descartes’s Rule to   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x 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80880" y="151452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701680" y="151452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+  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280520" y="20480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91560" y="288612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ational Zero Te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24400" y="372420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 Zero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3429000" y="3257640"/>
                <a:ext cx="646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10"/>
          <p:cNvSpPr/>
          <p:nvPr/>
        </p:nvSpPr>
        <p:spPr>
          <a:xfrm>
            <a:off x="824400" y="5095800"/>
            <a:ext cx="57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factor of the constant ter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= a factor of the leading coeffic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20280" y="82872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 - 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53000" y="181944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rational zeros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Text Box 5"/>
          <p:cNvSpPr/>
          <p:nvPr/>
        </p:nvSpPr>
        <p:spPr>
          <a:xfrm>
            <a:off x="5014800" y="15908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ctors of 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014800" y="20480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 of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2590920" y="2514600"/>
                <a:ext cx="31240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5862600" y="2819520"/>
                <a:ext cx="234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10"/>
          <p:cNvSpPr/>
          <p:nvPr/>
        </p:nvSpPr>
        <p:spPr>
          <a:xfrm>
            <a:off x="596160" y="21924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rational zero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931000" y="29520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artes Ru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929200" y="6764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or 1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28840" y="10573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792400" y="35053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 with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283040" y="376236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-1    1    -3    -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1219320" y="43052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219320" y="430524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7140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280880" y="4429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81440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34792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881080" y="4448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538440" y="4448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253400" y="4448160"/>
            <a:ext cx="38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not = 0, so not a zer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671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128088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814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2347920" y="5076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2957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36432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342900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1219320" y="55245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534960" y="5738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128088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181440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232884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95740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8"/>
          <p:cNvSpPr/>
          <p:nvPr/>
        </p:nvSpPr>
        <p:spPr>
          <a:xfrm>
            <a:off x="2743200" y="55245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252680" y="50576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   (x – 2) is a fa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253040" y="572436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   (x + 1) is a fa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211680" y="6281640"/>
            <a:ext cx="87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)(x – 2)(x + 1)  are the factors &amp; -1 and 2 are zer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33000" y="60948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rational zeros of  f(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8x +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45680" y="1362240"/>
            <a:ext cx="13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.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509480" y="1371600"/>
            <a:ext cx="15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509120" y="18954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04000" y="137160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. zeros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4952880" y="1143000"/>
                <a:ext cx="12956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6207120" y="1209600"/>
                <a:ext cx="27939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1966680" y="296244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752480" y="3505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1752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2808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9666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8810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795480" y="3648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7098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472000" y="36482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orks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4197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601920" y="456264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1)(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x –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593280" y="517212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1)(2x – 1)(x + 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828360" y="578160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     ½        -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87600" y="60012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   f(x) = 10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15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16x + 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73200" y="1209600"/>
            <a:ext cx="9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14400" y="12096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814040" y="16668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568680" y="12096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. Zer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5638680" y="1143000"/>
                <a:ext cx="31244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>
                          <m:t xml:space="preserve">1,2,3,4,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,2,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-11160" y="2666880"/>
                <a:ext cx="914868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,2,3,4,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1661760" y="402912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447920" y="4572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4479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976320" y="47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585440" y="4714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500200" y="4714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566520" y="47149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405320" y="4714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1600200" y="4952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5724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585440" y="5324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26524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566880" y="532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44812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191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5031000" y="53341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01920" y="608652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2)(10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x – 6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4178520" y="608652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. form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7"/>
              <p:cNvSpPr txBox="1"/>
              <p:nvPr/>
            </p:nvSpPr>
            <p:spPr>
              <a:xfrm>
                <a:off x="6629400" y="5257800"/>
                <a:ext cx="25146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9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14720" y="380880"/>
            <a:ext cx="83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zero to find all the zeros of the functi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99760" y="10969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iven:  3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0440" y="1690560"/>
            <a:ext cx="71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3i is a zero, then -3i, it’s conjugate, is a zer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0800" y="2224080"/>
            <a:ext cx="59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y these zeros in factored for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04720" y="27036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- 3i)(x + 3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794680" y="268128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156480" y="114300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9x +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0"/>
              <p:cNvSpPr txBox="1"/>
              <p:nvPr/>
            </p:nvSpPr>
            <p:spPr>
              <a:xfrm>
                <a:off x="609480" y="3429000"/>
                <a:ext cx="52135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864720" y="541008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eros are 3i, -3i, and 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ass.ibrahim</cp:lastModifiedBy>
  <dcterms:modified xsi:type="dcterms:W3CDTF">2012-02-23T05:39:12Z</dcterms:modified>
  <cp:revision>4</cp:revision>
  <dc:subject/>
  <dc:title>PowerPoint Presentation</dc:title>
</cp:coreProperties>
</file>